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0CBE-0328-4B28-BFC2-551B2F08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A77E-1689-40DC-B31B-514A5EA9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9D6D-3788-432A-8893-C8410171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0179-F279-4FF0-AC0E-CC439458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8971-70F9-4233-BD14-E0C2EE1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FEF8A-B96F-4D9A-BF92-1DDACC9F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746E7-531E-4285-93E2-17727F99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7E617-1078-4D10-85DE-D746D84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694DB-FB9B-4000-8B93-9281686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75C0E-1751-4FC5-964C-DB354C8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34D20-C6BA-4914-B4DF-ABD5619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5090B-295B-45E1-837E-35ADE45A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3BB6E-18A7-4895-BA83-3E8EDCBA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86EC4-BB84-4428-AC53-A22CE696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DD3F6-34E0-4CE5-BAC7-5AB15BD4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6C59-CFA8-4DBB-9F43-4911F713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CC5ED-B7FB-4F9F-A809-A98F3798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369AC-56DC-46DC-9140-C7628A46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C8362-8B69-4E73-BA0C-EF93E31A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4B076-98E5-45DB-B7A4-B350E0F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EFFE3-E174-49E9-941C-D46ED49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0EC12-7B48-48DD-8C41-4D0275D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6E406-D9FA-4449-8D69-322FEC0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77B4D-36DD-42D8-9B76-AE87DC2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AFFEC-574F-40EF-B929-605CE02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70C6E-8D06-42DF-B727-34750F9D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0835-096D-4A1F-92E2-9587E744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A4FDB-5411-426C-B25E-7618435C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1F2741-97FA-4A4F-BE3F-B3917EF5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517E7F-14DF-4FC3-9621-F2A97612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505127-B004-4DD6-AE67-6BFFED8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B52D1D-46EB-4833-A909-47758D7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8853C6-56B9-44A0-938C-8F4F12D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84D3A2-8F2F-4C23-99CA-EBA18478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577B21-4B1F-421B-9478-9467EEF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696FFB-92C5-439F-8025-7EC3996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145A13-4F2B-40DD-B59B-60AADA4A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6D92-9F20-4C86-A7D8-6549714B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807D70-173C-4011-9BA8-2D61A634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496A85-5C93-4C6C-BD7A-613C2523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3A7FED-9E04-4C86-9A1F-1585A079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9D224-39A1-4196-9A6A-8FB62C2B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ABA17-638F-47B1-A462-8E2029AA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A3B20-8183-4DBA-9FCC-90C5670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554DA-4254-451B-9F2B-FF58C17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7187A-0E10-41E7-A8D5-57945310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C7398-CF47-4A53-9954-9DE4D1FB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3708D-B83E-414D-AF1C-B2958D4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ACB0-06A7-405C-AC53-9AE4F2C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5DC28-388C-4552-94FE-83033F1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78218-ECCC-4ABE-92E2-524D6A31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0F942-055E-4ABC-83C2-47CA8C7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C67CC-A96A-4CF3-BA43-CA04934D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4EECC-54A4-43FD-81FE-7D37DF12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B5454D-AD0C-4835-BA5D-1C02E448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F58D5F-F9E8-46B7-AA14-27991FBE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E1C607-ED44-4C81-A514-1A396B7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364D8F-6A32-4C79-991D-4F5E9F2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31DDB6-377F-4AD6-8B27-4069779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713E-1DF9-4482-9514-13071CD7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2ED8C7-6F9D-44CF-8B62-493802C8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C6C408-23FB-491E-90D1-68BB6E4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7DC801-E338-46F8-B5A7-E175AFD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517777-00B3-4CC6-9D52-5B1BA22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E6AB72-49B1-40AA-B268-D91E557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B83DCE-1D25-4258-8105-77247364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15600B-1F01-4E8B-B489-9F08796B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A711FF-31CD-4A27-A378-94851E46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57ABBC-FF25-43CC-B6C0-41CDEEEB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155BA6-8571-41B7-955F-71908F2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FB1-3AC7-4F83-9D41-7EBA810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9557A2-31A3-4E70-8753-9DD12BB5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6AC775-B78A-4F3E-88A7-2833F26F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36E086-4215-47A5-B806-B05D481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7D0C45-22DD-4A79-BE6A-882D769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8FA0E2-55A5-498E-8452-4D800A1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0D983C-2BF4-416F-9672-035D4E3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F995EF-5004-4875-AF19-D42EF411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3C4ADB-45D9-4CC4-AADB-67449A7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4FE9BB-C5AE-4CA9-AA4E-F7730670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EC29D8-31A5-4CAF-B469-09C165F0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5E9-4F29-4B77-80B7-D69E1EC6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ABFAC9-9ECD-4694-B72D-286949A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B4E3FA-5103-4B39-B7DE-31A16558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F63B7A-CB4B-4300-9F81-7C850A3A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4412E2-60A3-44FA-8AC6-33B7DC9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C9DAC3-9189-45DB-856E-5F00660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AB58D9-EC8C-4059-BD04-C73DE0C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716EA9-563F-4EBF-8C1C-A880A2F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A66296-4B5F-413E-BF16-6385738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415C7E-DE92-47F6-872E-AE332D0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52A911-31DC-4776-843A-4571E2AC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1213-6A62-4381-BAFD-A74CE96B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CD7B6A-F60B-4564-9C11-C51D831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7706C4-4D96-43BA-AFD2-7E118B09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A0C777-9C04-49A4-8C97-DE77A05D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1BEE0C-1462-492B-A37A-AC401F0C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5E9A27-A378-4C40-91E0-DD572B61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3ECDB1-EC61-4669-906F-C1D54B10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A2D00D-033F-49CD-87B4-04359BA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85CDF5-5756-4723-AD69-65C30DE8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8C9543-ED4E-46A9-BEE1-B8959D5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7B258B-037D-4FF8-BFD7-D4258C9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A87-B43F-4B1E-837F-32F80B1F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DB8D30-9591-43FE-AF63-979648B5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1337DA-672A-43AE-8EF7-06B0A808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774BCD-635F-4BCC-8F1C-D89D9FBF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C8DA53-20E5-49A2-B982-5B84582E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414CE4-709D-49F9-96DB-4A7B28A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A2A104-453D-4BAE-923D-EC2B882A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51D682-6C12-431D-82CA-E63F923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DD2371-C00C-46FD-887F-030B6267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187922-FAE9-4C1B-8363-E332041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1CC386-2A47-437E-A15A-65BF354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AE9B-BE98-45FB-A690-0E2AF29B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F5D7-4F41-48A8-9C9C-2D72832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443F8F-77F8-4888-9709-E9E402D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8AD3E2-14D1-45A1-9FCE-6C2692D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77EAC0-A84E-4580-B81E-C527788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D8B301-0B3C-488D-8CC5-070C1A14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7140CC-2912-4FC5-8E5F-128E474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EC03F5-4F15-477B-BDB0-72994E67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3BE49A-9BFA-4187-9A8D-CDFA8533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D992D4-3E3D-440E-82FE-35CB01C7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ED2D8E-A56B-42F7-B165-2F952C8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FFDCE6-B7BC-4F5B-8A25-A4B8CAF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AFDD-1948-4758-923A-21C2B74F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015391-AD23-4676-B878-32160F19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B4BFA8-E298-489C-AD8D-30BBFA6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C74FFD-65A7-4581-9F29-946DD1D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BB6ED8-F839-43E8-8FCF-8FAA958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FE886F-0033-4913-80EB-C2E754B2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5B0045-4657-441E-A070-1EA68467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7ED613-CC32-4AF8-A46B-3DC0467B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D27082-96C7-446E-8D12-207B0DBF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D6EACF-9330-4C2D-A844-DD2D91B7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CCAE54-2988-4974-A7FE-8A2F55BD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9262-089C-4B7F-945A-B64C13B7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C3B087-C153-42B2-AC0B-3312448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D36092-CF0E-4062-BD4F-49D6FDF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37F4B6-6315-47F1-9D6F-A89B8E9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AAE92C-CB6E-4B44-9D67-8386F59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A413A7-6E39-4EB3-B810-DF8C446E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661C22-1F56-490D-8689-7D6570A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BB87F8-3A16-4458-A1D2-DD65AC8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CAFA2B-F8AC-4C1E-9BB2-623608EB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EF8920-A886-4A93-9F58-79FD0469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37D730-A2B7-4F9C-AFD9-2F6DBD95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38B7-DD77-47CF-A4A7-36740811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45EA5D-3D97-4F3E-8F13-F365351A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1F0FE5-052C-4E5B-9BC6-B2FD3238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36E362-95EB-4279-A064-6598541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8206B0-1417-4A20-A9DB-A3DA45D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FA2AD6-83A1-4E92-95A7-138677FF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D1CA9C-B59B-4F2C-9CEC-C6222A21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CDD86F-9ECA-471C-B81E-F9A41FB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8B9EB2-27BD-4B84-B17C-A0CA007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5757C1-07BB-45EE-AFC9-11768DB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473BC0-1A01-4BF4-9FB4-6832EA3C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2C4-90D4-4FF9-8DD9-484B61E8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1D1DB9-FA49-422E-81CD-E3B0F2E1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E74420-D830-48BC-AE32-30F8809E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61DA97-C7F4-46DA-A79D-211F6AC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403BDB-41F3-47F0-BC58-F125A22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1BB921-EDE3-4795-9A44-3BDC961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A0E19E-3194-4C6A-9C29-3A0CCA4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774F358-6D0D-4477-9F91-CAD0879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CC3636-A061-4A76-8704-21522D0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45C6AF-B4A6-4972-BA08-AA815A7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142365-EFD9-48B8-9564-A198E25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291B1-F08B-4FEC-B443-F4955CBAFBD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0004B0-14A3-4931-8505-E03A7803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8AF796-FEF0-4729-81C2-5F0DE278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2EEF5E-EF0D-46DF-84F5-C973D802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48FC5B-632C-4446-8F6C-B674BE12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2CE1C2-651D-4B0A-A586-E61E66B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6AC87E-059A-42DD-BBD6-54B76A4C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54A0BB-4B02-41A4-862E-B8D100D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2C767D-C4B7-4DDD-8BEF-CF4EF13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31A976-400A-4044-9AB3-F0C34CC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371BF1-2F59-4CB5-829C-6064793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D1961-E5A5-45FC-96AF-20FDC1DEF3E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C38657-7869-4CB4-A363-E34548F9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59DDE2-F72C-4B14-850A-0FA3EB7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E3A5CF-7B9F-40D8-9561-C5B57F97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95152F-B3F9-456D-A9B5-4C87A1A8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BE7300-5ABC-4093-B288-BEE4D448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899E9E-2673-43C2-9D46-BE9CFF58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9AA322-1F01-48D2-B918-31E9C98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3E3034-CB17-477A-90D1-22EDC48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EDBDA8-B23E-4BCD-B0E4-DF0B550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986052-09F1-40E0-91D7-7F673C59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60335-109D-41B4-A468-AC2B66571C6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072D35-8847-41A5-9AA9-CBC5BA3D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7C70FE-8DB3-449D-985F-223D51D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C4DE16-4CDE-42B0-B8E9-2F2DA04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C26BC9-174B-446D-988E-F4D4A9E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C8E56CF-DC37-42E9-B41D-1109BB2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382F9E8-8222-42C2-9EE8-59A5014B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C75B80-8BC4-426C-8C85-03AB67C9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96F313-2FC1-498D-B923-A7588C4E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25BC80-7C09-440F-9372-15D93F0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FE1B68-BE01-4E68-ABB3-D29D896A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3170E-16AE-447C-BF8B-FA0CE5E9895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6BE36B-DCC0-48EC-9B4D-420C5AD0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0A9ADD-625B-4EDB-AF65-528A34C8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7B4FE1-AA20-4728-96C9-421AC52C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DCB5420-A3BA-4A67-9416-56C0C30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450AF8-77C0-4F4C-AC8E-D2A545C6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2ABFA03-74CF-49CE-AF1E-7FCA171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767BBB-40CD-43A0-9A4B-4F283103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DDAF06-DCE0-46DA-8E07-FC4BB4E0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7843AF-3C6E-4308-B02E-4A9F8E81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560EA1-EDBE-46E7-BAFB-647188E3C1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7EB66-2DC0-45B1-BDF4-C89CD836F52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27588C-B137-4E60-841A-69FD0E1C82F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BB01C8-A88E-464E-9F6C-363688FAED6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17FBDE-22F6-4370-9E97-B9BF91B1C1B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A87864-FD6E-456F-89D6-A678BEA792A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DD1E42-4009-4CD0-B6E8-F0972255BC0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BE01E3-3D8A-4DB4-8792-F339C09E33B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77D795-7BAC-4A4B-9917-6BD92892C2E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5E3CD4-7DCB-442E-8208-3BAAC1DB548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71C222-7877-4F60-8E85-9D0B155A9E6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928EC9-38F0-41A6-996D-68D37A523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4DAA-3EF7-440D-8062-4D212FB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BF0B7-AE7F-40E5-A12E-BE335987CE0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DA5BB8-8AAF-4F91-A927-1308F74D59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44D51-6C18-47A6-9862-21C0CB025F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16F19-09B7-4B8B-B10B-F1FA42147A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C1B61-F739-4BFD-A3FA-944A23E603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4DF3A-6674-492C-8612-5BEF3F7A97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49C7F-2474-464E-8101-A68354582E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22F39-8708-41F2-8F2F-576A4FD100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2AD98-1729-4138-8D3B-08B423EA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295E1-8EFA-47F5-81B8-11825FB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0FBC3-310F-4BCF-B07E-23939A1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F90B-EB60-465E-9F01-FEBB3CA4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3BB17-6F8B-4EDA-AAEA-6E6BA066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5392C-59EC-40DA-A996-42145F6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F8A7E-2B75-44BC-B2D2-8159B1B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C94B1-AC74-4502-9B11-1A06CDA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AE876-8F23-4820-BB91-9A39984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24F71-D37E-47B7-BAA9-E7A96DF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5980E-1227-4567-B385-1DA4367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5D2C6-20B4-4608-8693-181FAE14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142FB-096E-4914-B170-EDE01D6B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2665B1-2F59-4DE3-B954-7CB1A4B5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AC98-B4D6-4AB7-8F02-82BAD98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59AB8-C2D6-4E68-BD5B-0A4431F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5F7357-F465-4F97-BA5D-6CD682F7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5F8CDC-18E9-4E86-8C51-B161B0A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1CBA7-8EFE-43BC-9F07-666A270E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F73F3C-DE09-4A44-B2B0-DB8B58E2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6113EB-4B76-4196-AC88-5C829B1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FC786-F18B-4819-A164-777D7F0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47DAE-7FD3-435F-9B45-00834EE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C0E97-3DD0-44F3-8D36-D7AB8EAD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4DC0B8-1DCA-43F9-B400-53A54FD9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8322-16A1-4E7C-86A7-B0140795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264EF-3987-4ED6-9D9C-B44AE439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1957C-FA7E-4E84-8819-FFC5C4F4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339097-3557-4286-B864-083433C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5E6275-2CBF-43CC-8371-4CACECF0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CFA44-FE21-4CC9-B50D-BBFF879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CE6BA5-C09B-4A1B-B9DE-938F4C4C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B1D63-FFAF-4989-8559-BF1431C9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6F30F2-43E5-4EED-BBD3-FF6236B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4F2C3-03DA-431D-A536-63544C1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1B2BD8-6889-4C04-8ACF-E0E9BA0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DFE0-1397-421C-BE78-A843245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D8C422-352F-493D-BA89-65900C9F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AD6352-6A36-43D5-8FFB-B8B3A17D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58794-428A-42A5-BED6-74AFF715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F358CC-1026-4F1F-A42E-AADE93FE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1940CF-5AC4-4A9B-9784-9A9374D3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CE64B1-3FA1-4D8D-B0D5-B01950B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B2C3CB-F677-4B79-ACC3-ADDD91B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9322E-1D2D-410E-BE61-EAD8625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09ECE-84EF-428F-B587-257DEA4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461B8-4C13-498C-B4AE-20D7BD92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B526-2E8C-4C74-A45F-E005249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85833-CC49-441F-B14D-8961755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7B36A2-A8A0-4ACA-8EEB-C1178625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8F5D6-BDB6-4D5D-8395-643E2D6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7B2AD6-8E8A-4FCA-97B6-E05E22C3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3648D0-C329-44FF-ACF7-64276FC9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8D2D54-588F-4ECE-AF29-11CC8F8A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63A10-C3C3-4B51-8633-3D983A4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1409B8-EC25-4685-98B0-B9DDBD04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DE0DAD-69EE-480E-9357-24E97789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75CCA-80A4-48CF-8D41-B5631DC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C9FE-1EEA-45E0-B46E-56510EE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6D32D-5187-461E-B14E-841B0B7C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125A54-E68A-4812-8575-E8D44F5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40317-0CC9-42C2-8FAF-3469CDA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2F0F46-0C89-45EF-B23C-74AD9EF7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0DA0B1-019C-46D1-9112-B842D25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26152-1F79-4D71-A386-668876D3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1C282A-B902-4FF5-8439-1359A9C5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90301-0C7F-40FE-9BFE-E699811E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DA474-3369-4463-B3B2-DB943E5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9C0D0-6C3C-4C5D-8374-4100B40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4825-2299-4645-9876-4EA25DAB89A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B43B-46B8-45D2-A548-9BCDE312F6B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FCD-D792-49CB-8DCC-5C611FC8EE9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8341-9D4A-4E82-854B-56AA4157851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22DD-3313-4CE7-91F4-545E6D88769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13E2-F685-4F92-8364-AFA33802B4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B8B-088C-494D-9F30-49BB419D155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E816-FE30-482B-842E-553A1832341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00F-D82F-4332-AA4A-BB8BE12E02F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A7F-4DCD-4468-A67A-8359901B12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82B8-DBCA-4FE5-B278-AAFE5C49270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29EC-655E-42D6-A424-8F90C7491E0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16CE-B8A6-4A53-A06C-18281D9755C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4360-906A-4706-ABF6-40D092D346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A48-E392-4F3F-8889-4E101CE738B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6AE-56DF-41DA-AB5A-674F23132F5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66BE-CBD4-444F-B8D2-91D3418A5C3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2BF-A4B3-483B-A68A-CE057B93532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CA6E-95D1-4393-988E-251F602A267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46B-CA40-49FA-8F2E-620E1C3DC6B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0047-591A-4A22-8A70-0DF7177982B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A9BE-E820-41EB-A84D-BE2AD6AAA2D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BFD-7130-41B7-B793-FD5FF01CB50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2D1-31D4-49CD-9FC5-CC5B75C9F71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EB62-4351-47E7-AC0A-587BE2CC534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3A2A-80AA-48DA-AA97-159974C53479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-commerce portal design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ortals provide enterprise wide solutions to a broad and diverse set of departmental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helps in providing solutions to business proc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olvement of end users and different stakeholders is necess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t the priorities and provide solutions to the business model through e-commerce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lps in defining a portal strateg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5E9-30E7-4A2A-84CE-D5F2799EA58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 the end of the chapter, the students would lear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need to design e-commerce por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framework to design the portal for effective channel man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ation strategy for the por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0CE9-075C-4FE5-954E-3743A841367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Need for e-commerce port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Internet has impacted on the way we interacted with friends, carried out our business oper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Has impacted on brand equity of a firm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ecommerce surviving and growing every yea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Survived 7/11 because internet based organizations executed their disaster recovery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Survival was easy for the organizations who had e-commerce portal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Could regroup faste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dopted changes in the regulations faste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Least affected in corporate accounting scandal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fter dot com bust, ecommerce was an essential and growing part of the organiz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e-commerce portal gives optimum benefit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ligned with business model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44352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1FA-4B8E-4C8A-990D-E8AA38A997D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olidate IT infrastructur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duce costs in maintai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et all the requirements of regulatory as well as other stakeholders, such 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uman Resource (HR) portal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nance portal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rketing port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IO is asked to justify existence of each portal and provide the value to the stakehold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ign the business model with technology invest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ortal strategy  is desirable in consultation with all stakehil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D019-E296-4C08-AE94-945A8523692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749124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Delivering Value through e-commerce portal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mbria"/>
                <a:ea typeface="Arial Unicode MS"/>
              </a:rPr>
              <a:t>Delivering Value through e-commerce portal..contd..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igning business model with portal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ng a steering committee for design and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head should be the leader for the committ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ng strategic goals that would feasible and also technically possi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ior management commit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road 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derstand As-Is and To-Be pro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stakeholders expec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measurement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tain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oss functional integration for fu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versus techn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592-A791-4465-98E0-E0D9F6616BF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Role of CIO in portal desig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CIO has been defined in many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ward looking organiz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 IT to support business go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iatives in IT infrastructur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ign IT goals with vision and miss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IO is </a:t>
            </a: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esponsible for the information technology and computer systems that support organization g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Use IT as a strategic tool for business mode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CIO is involved with analyzing and reworking existing business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dentifying and exploiting the enterprise's knowledge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to integrate IT with immediate business pla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epares an effective risk management pl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volves stakeholders participation in decision mak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On summary, CIO has a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bined role of enterprise architects, project managers, and business analys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7665-33B7-44D1-B8A0-CD5E4F77213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Cloud Computing and e-commerce portal design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oice of private, hybrid or public cloud - as per its convenience and business requir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need to require spending time and efforts for designing the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daptation of best practices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global standardization of tools and procedu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 a portal easier and faster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sier for new enterprise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sier for using data mines and Artificial Intelligen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 analytics tool from existing portal too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kes the development cost les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st suited to market niches, where small-volume manufacturing or niche talent and skills are requir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BD6E-D3B7-4876-9A75-043D369554D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Case Study – Walmart.com and Futurebazaar.co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nalyze the case in the following manne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Industry characteris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orter’s five for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Illustrate traditional supply ch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dvantages and disadvantages of traditional supply ch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Vision, Mission and Business goals of the comp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SWOT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Issues and challenges faced by the comp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strate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Challenges faced in changing from traditional to e-commerce strate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D19-8725-4FC2-81F6-4A711044181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Case Study – Walmart.com and Futurebazaar.com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keholders and their value proposi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CIO in ecommerce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admap for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eering committ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Who should be members?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Roles and responsibilities for member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ommunication Strategy during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ewards and recognition to be given for motivating employ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tus review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Mileston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Critical Success Factors to be review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Feedback mechanism for further improv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7A9C-87DC-4934-9D7A-14DE98626E5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0T14:19:52Z</dcterms:modified>
  <cp:revision>428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